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5C50-CD5B-4755-908F-8DDB2EB041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D37A-0CFF-4252-B841-18A47F47C4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8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9A28-1342-42F2-86FD-020ABF2DFE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44BA-D19B-48C5-AB62-06325C5F23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8AC2-659B-49C3-9A7C-9E221A6C47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3711-3DAB-45BD-8166-08F8634AB9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7C5A-1971-44F6-870B-7CF9A9507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B35C-E907-4DB0-A8AD-54E3588306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760B-65B3-4698-AD7F-26023EF46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AF86-0FC1-4775-86A9-8302480428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F170-401B-4EE8-A2A5-271C6D0175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28A4-F991-4841-B1BF-8AB0AC9550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5D9B-4840-4B4D-8B89-83D71E96E2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5BBF-8C96-4845-B6FC-29D986842F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7CEC-136A-4BF9-B6E0-2D3CD1B9BB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2D2B-614F-4987-AD0B-51B270600C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6700-E457-42B7-90D1-B58DF7F4EA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1676-4277-402C-A7F5-8460446D4C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A114-0B98-49BA-A58F-3978499E51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F056-A4FA-4D87-8F12-C5DA863462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9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EFA1-886D-4A07-81DF-F8C93284A4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2D86-466F-4E94-85C7-92FF8F96CF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042B-6B98-4B91-83F3-EC46653F60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0169-1E50-4F0C-A57A-953A25FCD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ABA1-FABB-4973-9D47-A70ACDCAD4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D248-1B84-41C4-BF6A-5978BE8389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42E9-1B0D-4F27-8F09-B90E5E4A3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5DCE-90EA-410F-A93E-E9BDAFBB3E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6668-6DCA-41DF-9296-46BE122B51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A04D-3078-4A92-BE20-82845E96F4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0759-3247-46B6-834F-3F9AD1CC52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0BD4-3DDD-4128-8DC9-9C5C8CC153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5873-56A3-4794-9745-40F797F4C8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308B-B339-477D-962F-1D7A0E2B23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EA9D-BBAC-40D3-BA8A-05CF96666C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D313-C1A7-4C5B-B902-E239D8D667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A51-D42D-49E3-9877-706EE8CE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BEF-8B53-4F38-9E89-6E68A851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E18-49B9-4335-B551-26F5DAAC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FBA-957B-4BD6-A8E6-2553534A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DCC-7071-48D9-9A38-CFA9EF81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B8C-01A0-4F7A-9532-828C7823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AB2-9C9A-4CF0-BDCB-36E4A47B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82D-AA49-4155-9289-A6FF1259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A75-9957-4E5A-8212-32106049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E80-5834-45D0-8415-6DACE801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CF6-46E1-44AC-9A8B-C7A7AB19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ED3-072D-41E6-B3A9-016394DB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4024-46D2-4C9D-A4D7-A7D459B45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3642840"/>
            <a:ext cx="64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я не возвращ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 богата тканя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икогда не б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ужны старые плать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восстанов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рестав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всегда маскарад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697080" y="49291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й 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лонники исторического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славянофилы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оя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ывали, что всё, происшед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Петра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же истор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то никакая живая си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говоря уже о выходцах с того све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ла ни вычер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ившиеся факт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устранить их последств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, сверх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к чему возвращаться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ударственная жизн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петровской Росс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ла уродлива, бедна, ди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 ней-то и хотели славя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вратиться, хотя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признаются в этом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городский вечевой колок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только перелит в пуш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тром, а снят с колоколь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оанном Васильевич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епостное состояни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реплено ревизией при Пет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ведено Годуновым;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и кнут, батоги, пле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ются гораздо преж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пицрутенов и фух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10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форма и дух Запа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ходили Росс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то же было общ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ею и устрой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точной Римской империи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эта Византия, как не Рим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времён упад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без славных воспомин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угрызений совести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893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видно благотвор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ияние восточной церкви?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сточ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никла в Россию в цвету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тлую киевскую эпох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еликом князе Влади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ивела Россию к печаль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гнусным временам, описан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то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хиным, она утверд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лагословила все мер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ые против свободы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749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ых основ быт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чно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щная мысль Запа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й примы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 длинная история 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стоя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лодотвор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родыши, дремл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триарха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у славя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имчивый характер славя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нств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 само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ьша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оения и пластиц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их по преимуществу народ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ающимся в других народ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не вполне довлеют себ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знаю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воззрение на Европ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ретит у нас дурной приё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для утешения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тим другой Евро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рим в неё так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христиане верят в ра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живши год, другой в Европ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 удивлением видим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ые лю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му понятию о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раздо ниже е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798560"/>
            <a:ext cx="323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Белинский (2)"/>
          <p:cNvPicPr/>
          <p:nvPr/>
        </p:nvPicPr>
        <p:blipFill>
          <a:blip r:embed="rId1"/>
          <a:stretch/>
        </p:blipFill>
        <p:spPr>
          <a:xfrm>
            <a:off x="3741840" y="1906560"/>
            <a:ext cx="17096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5" descr="герцен"/>
          <p:cNvPicPr/>
          <p:nvPr/>
        </p:nvPicPr>
        <p:blipFill>
          <a:blip r:embed="rId2"/>
          <a:stretch/>
        </p:blipFill>
        <p:spPr>
          <a:xfrm>
            <a:off x="5380200" y="226692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6" descr="Грановский"/>
          <p:cNvPicPr/>
          <p:nvPr/>
        </p:nvPicPr>
        <p:blipFill>
          <a:blip r:embed="rId3"/>
          <a:stretch/>
        </p:blipFill>
        <p:spPr>
          <a:xfrm>
            <a:off x="6923160" y="2625840"/>
            <a:ext cx="18000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станкевич"/>
          <p:cNvPicPr/>
          <p:nvPr/>
        </p:nvPicPr>
        <p:blipFill>
          <a:blip r:embed="rId4"/>
          <a:stretch/>
        </p:blipFill>
        <p:spPr>
          <a:xfrm>
            <a:off x="4030560" y="367020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8" descr="Бакунин (2)"/>
          <p:cNvPicPr/>
          <p:nvPr/>
        </p:nvPicPr>
        <p:blipFill>
          <a:blip r:embed="rId5"/>
          <a:stretch/>
        </p:blipFill>
        <p:spPr>
          <a:xfrm>
            <a:off x="5576760" y="4030560"/>
            <a:ext cx="1328760" cy="17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9" descr="Кавелин (2)"/>
          <p:cNvPicPr/>
          <p:nvPr/>
        </p:nvPicPr>
        <p:blipFill>
          <a:blip r:embed="rId6"/>
          <a:stretch/>
        </p:blipFill>
        <p:spPr>
          <a:xfrm>
            <a:off x="6837480" y="4389480"/>
            <a:ext cx="158724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12760" y="1690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деал, составленный н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ят элементы верные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уществующие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совершенно изменившие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ыцарская добле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ящество аристократических нрав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огая чинность протестан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ая независимость англича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кошная жизнь итальянских художник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рящийся ум энциклопед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рачная энергия террористов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это переплавилось и перероди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лую совокупность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щих нраво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щански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49120" y="1797840"/>
            <a:ext cx="629784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ое поколение име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го Бога –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имеет богов кроме ег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а прийти к покой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иренному сознанию, что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щанств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кончательная фор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овершеннолетие – état adulte;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мыкается длинн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нови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анчивается эпопея ро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ман юности – всё, вносив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 поэзии и бед в жизнь народ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полусвободный Запа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о смотрел на Росс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авленную императорским трон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азованная Россия, вздых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отрела на счастие старших брат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ремя прошл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венство рабства водвор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ропа показ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ивительну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оциальному переворот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умаем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ссия не так неспособна к н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этом сходимся со славянам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этом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а вера в её будущнос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х пор, как туман, покрывавш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вральскую революцию, рассеял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кая простота заменила путаницу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ось только два интересных вопрос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 социальный и вопрос русск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ущности эти два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один и тот 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е и свободное разви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ого народного б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падает с стремле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ого социализм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2200" y="3057120"/>
            <a:ext cx="3965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Грановский"/>
          <p:cNvPicPr/>
          <p:nvPr/>
        </p:nvPicPr>
        <p:blipFill>
          <a:blip r:embed="rId1"/>
          <a:stretch/>
        </p:blipFill>
        <p:spPr>
          <a:xfrm>
            <a:off x="466560" y="1798560"/>
            <a:ext cx="43182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3" name="Text Box 7"/>
          <p:cNvSpPr/>
          <p:nvPr/>
        </p:nvSpPr>
        <p:spPr>
          <a:xfrm>
            <a:off x="521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1520" y="3238200"/>
            <a:ext cx="38941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станкевич"/>
          <p:cNvPicPr/>
          <p:nvPr/>
        </p:nvPicPr>
        <p:blipFill>
          <a:blip r:embed="rId1"/>
          <a:stretch/>
        </p:blipFill>
        <p:spPr>
          <a:xfrm>
            <a:off x="4857840" y="1798560"/>
            <a:ext cx="3879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8" name="Text Box 8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Бакунин (2)"/>
          <p:cNvPicPr/>
          <p:nvPr/>
        </p:nvPicPr>
        <p:blipFill>
          <a:blip r:embed="rId1"/>
          <a:stretch/>
        </p:blipFill>
        <p:spPr>
          <a:xfrm>
            <a:off x="5397480" y="1798560"/>
            <a:ext cx="319248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877840"/>
            <a:ext cx="407376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79056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нергия всеобъемл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тивореч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раз состоит в неуста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ожжении положите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чистом огне отрицат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049800" y="53974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еакция в Герм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178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 обяза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отреч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человеческого разум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справедливо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 отрицанием человече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ы и неизбежно прив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к теоретическ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к практическому рабств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ли Бог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ит, человек – раб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 разумен, справедл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ен, – значит, Бога нет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73480" y="5218200"/>
            <a:ext cx="31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едерализм, социал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антитеологиз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78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только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ли вла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в сам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итической власт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617080" y="5218200"/>
            <a:ext cx="33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нуто-германска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пе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циальная револю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7840" y="3057120"/>
            <a:ext cx="4289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466560" y="1798560"/>
            <a:ext cx="3159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3" name="Text Box 8"/>
          <p:cNvSpPr/>
          <p:nvPr/>
        </p:nvSpPr>
        <p:spPr>
          <a:xfrm>
            <a:off x="4713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по себе он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общинное начало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ло зачатков жизни и развит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клонилось всё более и бол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упадку, потому что н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о на личном нача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м необходимом услов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й гражданствен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4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2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5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3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6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7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8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9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0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1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2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3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4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7840" y="3057480"/>
            <a:ext cx="4146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Белинский (2)"/>
          <p:cNvPicPr/>
          <p:nvPr/>
        </p:nvPicPr>
        <p:blipFill>
          <a:blip r:embed="rId1"/>
          <a:stretch/>
        </p:blipFill>
        <p:spPr>
          <a:xfrm>
            <a:off x="466560" y="1798560"/>
            <a:ext cx="41022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7"/>
          <p:cNvSpPr/>
          <p:nvPr/>
        </p:nvSpPr>
        <p:spPr>
          <a:xfrm>
            <a:off x="5073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 rot="10800000">
            <a:off x="2122560" y="1726920"/>
            <a:ext cx="6837120" cy="493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дьба субъекта, индивидуума, лич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жнее судеб всего мир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 и удалось взлезть на верхнюю ступ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ницы развития – я и там бы попроси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с отдать мне отчёт в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р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й жизни и истории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аче я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хней ступени бросаюсь вниз голов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хочу счастья и даром, если не бу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коен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чё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ажд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моих братье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крови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ят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гармония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быть, это оч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год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сладительно для мелома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ж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для тех, кому сужд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ей участью идею дисгармони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232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В. П. Ботк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религии и церк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сия видит своё спасение не в мистициз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аскетизме, не в пиетизме, а в успех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и, просвещения и гуман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уж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пов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слыш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!)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литв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твердила их!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уждение в народе чувства 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инств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олько веков потеря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грязи и навоз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а и законы, сообраз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 учением церкви, а с здравым смысл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раведливостью, и строгое, по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выполнение. А вместо этого она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ужасное зрелище страны,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де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никаких гарантий для личности, че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ственности, но нет даже и полицейск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а, а есть только огромные корпо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х служебных воров и граби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1384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. В. Гог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важность этой литерату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ер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исто отрицательные…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рона их доктрин заключается в каких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уманных, мистических предчувствия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еды Востока над Западом, котор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остоятельность обнаруживается фа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всеми вместе и кажд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ознь. Но отрицательная сторона их 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аздо более заслуживает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том, что она говор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гни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то бы Запа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Запада славянофил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ительно не понимают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рят его на восточный аршин), но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говор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русского европеизм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об этом они говорят много д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6960" y="5037120"/>
            <a:ext cx="232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гляд на русск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46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4240" y="2877840"/>
            <a:ext cx="439740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герцен"/>
          <p:cNvPicPr/>
          <p:nvPr/>
        </p:nvPicPr>
        <p:blipFill>
          <a:blip r:embed="rId1"/>
          <a:stretch/>
        </p:blipFill>
        <p:spPr>
          <a:xfrm>
            <a:off x="4857840" y="1798560"/>
            <a:ext cx="388296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9" name="Text Box 7"/>
          <p:cNvSpPr/>
          <p:nvPr/>
        </p:nvSpPr>
        <p:spPr>
          <a:xfrm>
            <a:off x="771984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8:04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0:08:18Z</dcterms:modified>
  <cp:revision>67</cp:revision>
  <dc:subject>История русской философии - Лекция 3</dc:subject>
  <dc:title>Западники</dc:title>
</cp:coreProperties>
</file>